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C8C1-DFF1-450C-9E8F-C398EBA4D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FF43-78F5-47CE-8F34-F8247151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08F7-2A85-4D41-AA4B-AF63D6DB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3FDF-6D88-4417-B107-BEAEB07B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6D2A-126F-45D0-8677-EC0F0F5A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E85-B108-4236-8CC5-7D370F40F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D2C6-E5D5-4714-A3DD-15B9FE53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E1BD-4E6E-405A-BC82-CDE4C824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FBB3-C306-4729-851B-A9421B95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B23-F82C-422A-AF9B-A971FB4C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2DA-F280-49E3-B7B4-CC483396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98F-EF05-4D11-ABDE-B73A7F05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75D-171F-4960-8B97-76D55AD3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33F5-28FC-4AD0-AC48-9C681A93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A2B2-06C0-4FB8-A949-DCBFB41F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E9B3-70C0-433F-B118-22CA4900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C266-F4FD-4AAA-A7E6-40BCA73C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C587-F672-42BB-8B3E-371282CB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AECC-74FA-4080-BE71-A87DF563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F577-8C04-450C-853B-96F8690F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9E5-1A36-42C9-A5B0-6A031AA0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DAE9-9040-404D-9B97-C4D89DA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6129-01F1-4ABE-8A57-456176C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68C8-86F7-4807-ACEB-E0EE3DF8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FEA6-3450-449C-9CFD-5BC0871C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51E5-A642-40BA-8933-5870339D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8E0D-D5A1-4208-A649-9E6A77DD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3DA1-36D0-4696-B513-F2A50796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0141-4C01-4BAF-A3E1-1D203131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D7A9-D643-4F72-8DF2-E31746B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9DFF-7DEB-4F6D-8EAE-FF977410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C1F-98DB-41A7-A7CE-6A5A9F9A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B52B-9B13-4C91-9DB2-5964FA9A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6C63-9BC2-43B2-8E44-513F7B48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4423-25A4-42C0-A3EF-B07722FE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525E-0038-4235-8100-1CFEF5E4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2347-C48A-4E26-A0D1-7647607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7816-2BDB-47DC-BEDF-4B7D45EA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57E6-FE63-4A27-94C0-F8743782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FE0-2E24-4D59-A7A8-028F0F49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92D-212C-40DB-93C0-14D971EA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7D6-0511-4981-98A1-646B140A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066-6A66-4F27-9A5C-9AD4F81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D89-DACB-4FA0-B646-8E46509F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761-982C-415C-B1FB-26DDEE2F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9CD-8C42-4014-9CCD-DC8BE3181D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F02B-E012-4E96-A85E-BDD41E55B5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F158-2CAB-463D-8CD5-21542BA76F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Angela Michaliga</cp:lastModifiedBy>
  <dcterms:modified xsi:type="dcterms:W3CDTF">2012-11-09T14:18:44Z</dcterms:modified>
  <cp:revision>10</cp:revision>
  <dc:subject/>
  <dc:title>All About Me</dc:title>
</cp:coreProperties>
</file>